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F47E-0F7E-4CAE-9851-F4E79C51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060A-D73B-4D40-AD8D-C2C2A725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965A-EA89-40E6-91B7-DC52B50F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D46B-C1E7-4D4C-B14D-5BFF94A5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C6C4-EDF0-47CF-9200-57E01AC6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313-1FF1-45EF-AEEB-018C387A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37A-99D9-4B57-AA52-FA35EDBA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3C09-F124-4158-8B2F-930F3313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251-BA10-480F-98CD-47E6EB0C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6C43-1FD4-4D76-B5B5-45F50984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72C2-9A48-4830-B015-058EFF23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560-B16F-4F21-8764-859C3086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DFD0-3519-4AE2-B2B0-58EA349B0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in 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920" y="6093000"/>
            <a:ext cx="380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y David Shortis 9P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out Lin 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 Onus (William McLintock Onus) was born on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cember 1948. He passed away on October 24, 199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04000" y="333360"/>
            <a:ext cx="1944720" cy="1057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1950840" cy="1127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211640" y="2637000"/>
            <a:ext cx="3470400" cy="3886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314172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 Onus was the only child of a Scottish mother and an Aboriginal fa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has two sons named Kenneth, Tiriki and a daughter named Birral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3716280"/>
            <a:ext cx="1447920" cy="1905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9280" y="5661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 Father Bill O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68360" y="3716280"/>
            <a:ext cx="3024360" cy="1898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32000" y="566100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5661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s Son Tir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More About Lin 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in Onus was a self taught artist who began as a motor mechanic before making artifacts for his fathers business called Aboriginal Enterprises in Belgrave V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4462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Award Winning Pa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His Painting Barmah Forest won Canberra's National Heritage Award in 199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442944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ointment to the Australian Council as Chairman of the Artists Management Association in 199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warded with an Order of Australia for his contribution as an Artist and Ambassad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Lin Onus"/>
          <p:cNvPicPr/>
          <p:nvPr/>
        </p:nvPicPr>
        <p:blipFill>
          <a:blip r:embed="rId1"/>
          <a:stretch/>
        </p:blipFill>
        <p:spPr>
          <a:xfrm>
            <a:off x="3419640" y="4581360"/>
            <a:ext cx="173988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me of his many           Pain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04000" y="83664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971880"/>
            <a:ext cx="3611520" cy="2886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189000"/>
            <a:ext cx="3313080" cy="3405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867280" y="3933720"/>
            <a:ext cx="3097440" cy="2752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924360" y="4149720"/>
            <a:ext cx="1722240" cy="2290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3348000" y="1557360"/>
            <a:ext cx="34146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9:50:18Z</dcterms:created>
  <dc:creator>Davo</dc:creator>
  <dc:description/>
  <dc:language>en-US</dc:language>
  <cp:lastModifiedBy>Davo</cp:lastModifiedBy>
  <dcterms:modified xsi:type="dcterms:W3CDTF">2008-07-29T11:08:49Z</dcterms:modified>
  <cp:revision>3</cp:revision>
  <dc:subject/>
  <dc:title>Lin Onus</dc:title>
</cp:coreProperties>
</file>